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8742-8591-4B62-90A5-BC7010E1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C83-F649-4328-9F72-92992401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02F-034E-441D-9704-6A690215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D2DE-0566-4498-98D9-190A355A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EFB8-7A17-4B7E-B94A-1D44769B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A99F-1B5F-46F0-97C5-2B23EC9F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F5B9-6504-4127-A862-D37A5D4A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8ACF-B571-4C30-811F-F9BE58F8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03A2-2620-4E70-917F-2D192345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298B-5FB6-4E16-B372-C2F1D0C5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5172-1F32-4E46-B30B-7B4B77D1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F0E-CB8B-4108-9F7F-E6EACA78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A846-DF56-4856-9254-86BC2A38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2E00-6D38-4976-B25B-7B9732E2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14B3-04A4-4980-A3CB-F9AEEF9F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0B1F-F0E2-408D-A3CB-9545701B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6BD7-35D7-4B5D-B5AE-2553BE59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261-7A74-4065-94EF-25162E31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CDE-0B0B-4CE6-B4AB-AE0CD3B7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9BE-DC51-480C-8AAB-25F37CB5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2B9A-EA7E-4A6A-8D43-1C30871F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C1C8-0E67-4B6A-AD37-C5BAEA48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4B1-C833-49E0-ACE7-42FD4EC2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165D-94ED-4A5B-9CF2-AD67526A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5D6B-095E-4FF4-8CDC-613C4D8D4EE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67CF-43F5-406D-9A29-FF799A4C40C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440" y="457200"/>
            <a:ext cx="5181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5400" spc="-1" strike="noStrike">
                <a:solidFill>
                  <a:srgbClr val="482400"/>
                </a:solidFill>
                <a:latin typeface="Times New Roman"/>
              </a:rPr>
              <a:t>CP Psychology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The Brain and Behavi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2400"/>
                </a:solidFill>
                <a:latin typeface="Times New Roman"/>
              </a:rPr>
              <a:t>Section 4Q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rainmap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0512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brainmap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1614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2120" y="3808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Q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7524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Psychologists Study the B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3701" t="0" r="7407" b="0"/>
          <a:stretch/>
        </p:blipFill>
        <p:spPr>
          <a:xfrm>
            <a:off x="5257800" y="2514600"/>
            <a:ext cx="3657600" cy="4038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5800" y="1828800"/>
            <a:ext cx="487692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612880"/>
            <a:ext cx="45720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hysiological Psychologi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udy the brain by recording, stimulating or by le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r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use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EG machine (Electroencephalograph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or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 electrical brain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rainmap" descr="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1614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62120" y="380880"/>
            <a:ext cx="670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Q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rcRect l="11185" t="3930" r="3012" b="10875"/>
          <a:stretch/>
        </p:blipFill>
        <p:spPr>
          <a:xfrm>
            <a:off x="0" y="3352680"/>
            <a:ext cx="5029200" cy="3505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029200" y="3505320"/>
            <a:ext cx="42670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de implanted in reward (pleasure) center of the Hypothala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 will accept electrification in order to push a lever that  stimulates reward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700280"/>
            <a:ext cx="838188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993300"/>
                </a:solidFill>
                <a:latin typeface="Times New Roman"/>
              </a:rPr>
              <a:t>Electro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993300"/>
                </a:solidFill>
                <a:latin typeface="Times New Roman"/>
              </a:rPr>
              <a:t>chemic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used to get neurons to fire in the brain.  We can </a:t>
            </a:r>
            <a:r>
              <a:rPr b="0" i="1" lang="en-US" sz="2800" spc="-1" strike="noStrike">
                <a:solidFill>
                  <a:srgbClr val="993300"/>
                </a:solidFill>
                <a:latin typeface="Times New Roman"/>
              </a:rPr>
              <a:t>electrically/chemic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ivate pleasure, punishment, thirst, hunger, pain ce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brainmap" descr="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1614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2120" y="3808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Q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17524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905120" y="3060720"/>
            <a:ext cx="5333760" cy="3797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1752480"/>
            <a:ext cx="853452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sion: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sue destruc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69b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rain lesion is a naturally or experimentally caused destruction of brain tissue (to change behavi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rainmap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614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62120" y="3808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Q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17524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1828800"/>
            <a:ext cx="8381880" cy="45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ndocrine Syst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nds chemical messages, “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hormones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rough the bloodstream which affect selected organ (and only that organ) at a particula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ituitary Glan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brain) controlled by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hypothala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known as the “</a:t>
            </a:r>
            <a:r>
              <a:rPr b="0" i="1" lang="en-US" sz="2800" spc="-1" strike="noStrike" u="sng">
                <a:solidFill>
                  <a:srgbClr val="666600"/>
                </a:solidFill>
                <a:uFillTx/>
                <a:latin typeface="Times New Roman"/>
              </a:rPr>
              <a:t>master gland</a:t>
            </a:r>
            <a:r>
              <a:rPr b="0" i="1" lang="en-US" sz="2800" spc="-1" strike="noStrike">
                <a:solidFill>
                  <a:srgbClr val="666600"/>
                </a:solidFill>
                <a:latin typeface="Times New Roman"/>
              </a:rPr>
              <a:t>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it controls the entire hormonal system in your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666600"/>
                </a:solidFill>
                <a:latin typeface="Times New Roman"/>
              </a:rPr>
              <a:t>Hormones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cell metabolism in organs including growth/reproduction by regulating and storing nutr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5800" y="2678040"/>
            <a:ext cx="7315200" cy="410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85800" y="76320"/>
            <a:ext cx="7315200" cy="26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rainmap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1614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62120" y="3808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Q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17524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0" y="4038480"/>
            <a:ext cx="5334120" cy="2667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0" y="2025720"/>
            <a:ext cx="5334120" cy="2012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486400" y="1828800"/>
            <a:ext cx="365760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yroid glan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es hormones to control lethargy, laziness and over-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renal gland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ases adrenaline when angry to increase heart rate and brea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brainmap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1614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62120" y="38088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Q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7524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905120"/>
            <a:ext cx="4648320" cy="45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993300"/>
                </a:solidFill>
                <a:latin typeface="Times New Roman"/>
              </a:rPr>
              <a:t>Evolution of human behavi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ems from </a:t>
            </a:r>
            <a:r>
              <a:rPr b="0" lang="en-US" sz="2800" spc="-1" strike="noStrike">
                <a:solidFill>
                  <a:srgbClr val="666600"/>
                </a:solidFill>
                <a:latin typeface="Times New Roman"/>
              </a:rPr>
              <a:t>Charles Darwin’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olutionary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stinct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es specific behaviors seen more in primitive animals than apes/hu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ncts are passed on genetically … not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334120" y="1828800"/>
            <a:ext cx="3809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65160" y="1905120"/>
            <a:ext cx="81788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brainmap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614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62120" y="3808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 and Behavi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Q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19051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7524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1676520"/>
            <a:ext cx="838188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redity/Environment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(Nature/Nurture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t together to control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cal twin psychological studies are often used to test behavioral hypoth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066680" y="3564000"/>
            <a:ext cx="73152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9:48:30Z</dcterms:created>
  <dc:creator>Martel</dc:creator>
  <dc:description/>
  <dc:language>en-US</dc:language>
  <cp:lastModifiedBy>Authorized User</cp:lastModifiedBy>
  <dcterms:modified xsi:type="dcterms:W3CDTF">2006-12-05T15:26:30Z</dcterms:modified>
  <cp:revision>159</cp:revision>
  <dc:subject/>
  <dc:title>No Slide Title</dc:title>
</cp:coreProperties>
</file>